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37.png" ContentType="image/png"/>
  <Override PartName="/ppt/media/image13.wmf" ContentType="image/x-wmf"/>
  <Override PartName="/ppt/media/image10.jpeg" ContentType="image/jpeg"/>
  <Override PartName="/ppt/media/image28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34.wmf" ContentType="image/x-wmf"/>
  <Override PartName="/ppt/media/image41.png" ContentType="image/png"/>
  <Override PartName="/ppt/media/image9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47.wmf" ContentType="image/x-wmf"/>
  <Override PartName="/ppt/media/image12.wmf" ContentType="image/x-wmf"/>
  <Override PartName="/ppt/media/image4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27.png" ContentType="image/png"/>
  <Override PartName="/ppt/media/image33.jpeg" ContentType="image/jpeg"/>
  <Override PartName="/ppt/media/image5.wmf" ContentType="image/x-wmf"/>
  <Override PartName="/ppt/media/image35.wmf" ContentType="image/x-wmf"/>
  <Override PartName="/ppt/media/image30.jpeg" ContentType="image/jpeg"/>
  <Override PartName="/ppt/media/image7.wmf" ContentType="image/x-wmf"/>
  <Override PartName="/ppt/media/image36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D958-F2AB-4199-BDAC-9FF28B62B3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15D-A8FF-427E-908B-8FAB86F7B0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1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19.wmf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2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15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9.wmf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9.wmf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09 D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D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原理及配置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准备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9640" y="1413000"/>
            <a:ext cx="1237320" cy="1276200"/>
            <a:chOff x="539640" y="1413000"/>
            <a:chExt cx="1237320" cy="12762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1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26760" y="1657440"/>
              <a:ext cx="183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3040" y="1480680"/>
              <a:ext cx="10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网络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哪些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由器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用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C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8360" y="3089160"/>
            <a:ext cx="1295280" cy="1276560"/>
            <a:chOff x="468360" y="3089160"/>
            <a:chExt cx="1295280" cy="12765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539640" y="3089160"/>
              <a:ext cx="11509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27120" y="333360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3213000"/>
              <a:ext cx="1295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哪些路由器发出呼叫，哪些路由器接收呼叫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68360" y="4743360"/>
            <a:ext cx="1390680" cy="1276560"/>
            <a:chOff x="468360" y="4743360"/>
            <a:chExt cx="1390680" cy="1276560"/>
          </a:xfrm>
        </p:grpSpPr>
        <p:pic>
          <p:nvPicPr>
            <p:cNvPr id="408" name="" descr=""/>
            <p:cNvPicPr/>
            <p:nvPr/>
          </p:nvPicPr>
          <p:blipFill>
            <a:blip r:embed="rId3"/>
            <a:stretch/>
          </p:blipFill>
          <p:spPr>
            <a:xfrm>
              <a:off x="544680" y="4743360"/>
              <a:ext cx="11509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31800" y="498780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360" y="4797360"/>
              <a:ext cx="1390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使用何种网络？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(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或者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ISD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57440" y="2092320"/>
            <a:ext cx="1041480" cy="3288960"/>
            <a:chOff x="1657440" y="2092320"/>
            <a:chExt cx="1041480" cy="3288960"/>
          </a:xfrm>
        </p:grpSpPr>
        <p:sp>
          <p:nvSpPr>
            <p:cNvPr id="412" name=""/>
            <p:cNvSpPr/>
            <p:nvPr/>
          </p:nvSpPr>
          <p:spPr>
            <a:xfrm>
              <a:off x="2124000" y="3213000"/>
              <a:ext cx="574920" cy="936720"/>
            </a:xfrm>
            <a:custGeom>
              <a:avLst/>
              <a:gdLst>
                <a:gd name="textAreaLeft" fmla="*/ 89640 w 574920"/>
                <a:gd name="textAreaRight" fmla="*/ 503280 w 574920"/>
                <a:gd name="textAreaTop" fmla="*/ 234000 h 936720"/>
                <a:gd name="textAreaBottom" fmla="*/ 7027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" name=""/>
            <p:cNvCxnSpPr>
              <a:stCxn id="402" idx="3"/>
              <a:endCxn id="412" idx="0"/>
            </p:cNvCxnSpPr>
            <p:nvPr/>
          </p:nvCxnSpPr>
          <p:spPr>
            <a:xfrm>
              <a:off x="1657440" y="2092320"/>
              <a:ext cx="46728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"/>
            <p:cNvCxnSpPr>
              <a:stCxn id="404" idx="3"/>
              <a:endCxn id="412" idx="1"/>
            </p:cNvCxnSpPr>
            <p:nvPr/>
          </p:nvCxnSpPr>
          <p:spPr>
            <a:xfrm flipV="1">
              <a:off x="1690560" y="3681000"/>
              <a:ext cx="434160" cy="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8" idx="3"/>
              <a:endCxn id="412" idx="2"/>
            </p:cNvCxnSpPr>
            <p:nvPr/>
          </p:nvCxnSpPr>
          <p:spPr>
            <a:xfrm flipV="1">
              <a:off x="1695600" y="3680640"/>
              <a:ext cx="429120" cy="170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6" name=""/>
          <p:cNvSpPr/>
          <p:nvPr/>
        </p:nvSpPr>
        <p:spPr>
          <a:xfrm>
            <a:off x="2806200" y="4853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择相应的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771640" y="2924280"/>
            <a:ext cx="1136880" cy="1523880"/>
            <a:chOff x="2771640" y="2924280"/>
            <a:chExt cx="1136880" cy="1523880"/>
          </a:xfrm>
        </p:grpSpPr>
        <p:pic>
          <p:nvPicPr>
            <p:cNvPr id="418" name="" descr=""/>
            <p:cNvPicPr/>
            <p:nvPr/>
          </p:nvPicPr>
          <p:blipFill>
            <a:blip r:embed="rId4"/>
            <a:stretch/>
          </p:blipFill>
          <p:spPr>
            <a:xfrm>
              <a:off x="2771640" y="2924280"/>
              <a:ext cx="113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843280" y="3138480"/>
              <a:ext cx="94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Async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Serial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132000" y="1628640"/>
            <a:ext cx="1366920" cy="11527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643280" y="1341360"/>
            <a:ext cx="1873440" cy="1165320"/>
            <a:chOff x="4643280" y="1341360"/>
            <a:chExt cx="1873440" cy="1165320"/>
          </a:xfrm>
        </p:grpSpPr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4643280" y="1341360"/>
              <a:ext cx="18734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789800" y="1577880"/>
              <a:ext cx="155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链路层封装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(PPP,X.25,F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076720" y="2565360"/>
            <a:ext cx="865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427640" y="3068640"/>
            <a:ext cx="2185920" cy="1355760"/>
            <a:chOff x="4427640" y="3068640"/>
            <a:chExt cx="2185920" cy="1355760"/>
          </a:xfrm>
        </p:grpSpPr>
        <p:pic>
          <p:nvPicPr>
            <p:cNvPr id="426" name="" descr=""/>
            <p:cNvPicPr/>
            <p:nvPr/>
          </p:nvPicPr>
          <p:blipFill>
            <a:blip r:embed="rId6"/>
            <a:stretch/>
          </p:blipFill>
          <p:spPr>
            <a:xfrm>
              <a:off x="4427640" y="3068640"/>
              <a:ext cx="2185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579200" y="3378240"/>
              <a:ext cx="155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网络层协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(IP or IP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 rot="5400000">
            <a:off x="5148000" y="4581360"/>
            <a:ext cx="1297080" cy="100800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372360" y="4653000"/>
            <a:ext cx="2771640" cy="1800360"/>
            <a:chOff x="6372360" y="4653000"/>
            <a:chExt cx="2771640" cy="1800360"/>
          </a:xfrm>
        </p:grpSpPr>
        <p:pic>
          <p:nvPicPr>
            <p:cNvPr id="430" name="" descr=""/>
            <p:cNvPicPr/>
            <p:nvPr/>
          </p:nvPicPr>
          <p:blipFill>
            <a:blip r:embed="rId7"/>
            <a:stretch/>
          </p:blipFill>
          <p:spPr>
            <a:xfrm>
              <a:off x="6372360" y="4653000"/>
              <a:ext cx="2771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730920" y="4724280"/>
              <a:ext cx="1994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两种配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C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方法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进行选择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轮循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或者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共享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7020000" y="2492280"/>
            <a:ext cx="1904760" cy="16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轮循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发出或接受呼叫（包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的配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71640" y="4076640"/>
            <a:ext cx="1439640" cy="1655280"/>
            <a:chOff x="971640" y="4076640"/>
            <a:chExt cx="1439640" cy="1655280"/>
          </a:xfrm>
        </p:grpSpPr>
        <p:grpSp>
          <p:nvGrpSpPr>
            <p:cNvPr id="436" name=""/>
            <p:cNvGrpSpPr/>
            <p:nvPr/>
          </p:nvGrpSpPr>
          <p:grpSpPr>
            <a:xfrm>
              <a:off x="971640" y="4076640"/>
              <a:ext cx="1392120" cy="1655280"/>
              <a:chOff x="971640" y="4076640"/>
              <a:chExt cx="1392120" cy="1655280"/>
            </a:xfrm>
          </p:grpSpPr>
          <p:sp>
            <p:nvSpPr>
              <p:cNvPr id="437" name=""/>
              <p:cNvSpPr/>
              <p:nvPr/>
            </p:nvSpPr>
            <p:spPr>
              <a:xfrm>
                <a:off x="982800" y="4090680"/>
                <a:ext cx="1371600" cy="163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982800" y="4076640"/>
                <a:ext cx="74520" cy="165528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84560" y="4076640"/>
                <a:ext cx="77760" cy="165528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84240" y="4076640"/>
                <a:ext cx="1379520" cy="133560"/>
              </a:xfrm>
              <a:custGeom>
                <a:avLst/>
                <a:gdLst>
                  <a:gd name="textAreaLeft" fmla="*/ 164880 w 1379520"/>
                  <a:gd name="textAreaRight" fmla="*/ 1214640 w 13795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971640" y="5594040"/>
                <a:ext cx="1376280" cy="133560"/>
              </a:xfrm>
              <a:custGeom>
                <a:avLst/>
                <a:gdLst>
                  <a:gd name="textAreaLeft" fmla="*/ 145800 w 1376280"/>
                  <a:gd name="textAreaRight" fmla="*/ 1230480 w 137628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1095480" y="4376520"/>
              <a:ext cx="131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ia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35280" y="4076640"/>
            <a:ext cx="1439640" cy="1655280"/>
            <a:chOff x="3635280" y="4076640"/>
            <a:chExt cx="1439640" cy="1655280"/>
          </a:xfrm>
        </p:grpSpPr>
        <p:grpSp>
          <p:nvGrpSpPr>
            <p:cNvPr id="444" name=""/>
            <p:cNvGrpSpPr/>
            <p:nvPr/>
          </p:nvGrpSpPr>
          <p:grpSpPr>
            <a:xfrm>
              <a:off x="3635280" y="4076640"/>
              <a:ext cx="1392120" cy="1655280"/>
              <a:chOff x="3635280" y="4076640"/>
              <a:chExt cx="1392120" cy="1655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646440" y="4090680"/>
                <a:ext cx="1371600" cy="163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46440" y="4076640"/>
                <a:ext cx="74520" cy="165528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48200" y="4076640"/>
                <a:ext cx="77760" cy="165528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47880" y="4076640"/>
                <a:ext cx="1379520" cy="133560"/>
              </a:xfrm>
              <a:custGeom>
                <a:avLst/>
                <a:gdLst>
                  <a:gd name="textAreaLeft" fmla="*/ 164880 w 1379520"/>
                  <a:gd name="textAreaRight" fmla="*/ 1214640 w 13795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3635280" y="5594040"/>
                <a:ext cx="1376280" cy="133560"/>
              </a:xfrm>
              <a:custGeom>
                <a:avLst/>
                <a:gdLst>
                  <a:gd name="textAreaLeft" fmla="*/ 145800 w 1376280"/>
                  <a:gd name="textAreaRight" fmla="*/ 1230480 w 137628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759120" y="4376520"/>
              <a:ext cx="131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29440" y="4076640"/>
            <a:ext cx="1871640" cy="1655640"/>
            <a:chOff x="6229440" y="4076640"/>
            <a:chExt cx="1871640" cy="1655640"/>
          </a:xfrm>
        </p:grpSpPr>
        <p:grpSp>
          <p:nvGrpSpPr>
            <p:cNvPr id="452" name=""/>
            <p:cNvGrpSpPr/>
            <p:nvPr/>
          </p:nvGrpSpPr>
          <p:grpSpPr>
            <a:xfrm>
              <a:off x="6229440" y="4076640"/>
              <a:ext cx="1553760" cy="1655640"/>
              <a:chOff x="6229440" y="4076640"/>
              <a:chExt cx="1553760" cy="1655640"/>
            </a:xfrm>
          </p:grpSpPr>
          <p:sp>
            <p:nvSpPr>
              <p:cNvPr id="453" name=""/>
              <p:cNvSpPr/>
              <p:nvPr/>
            </p:nvSpPr>
            <p:spPr>
              <a:xfrm>
                <a:off x="6241680" y="4090680"/>
                <a:ext cx="1531080" cy="1632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41680" y="4076640"/>
                <a:ext cx="83160" cy="165564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95000" y="4076640"/>
                <a:ext cx="86760" cy="165564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3480" y="4076640"/>
                <a:ext cx="1539720" cy="133560"/>
              </a:xfrm>
              <a:custGeom>
                <a:avLst/>
                <a:gdLst>
                  <a:gd name="textAreaLeft" fmla="*/ 183960 w 1539720"/>
                  <a:gd name="textAreaRight" fmla="*/ 1355760 w 15397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6229440" y="5594400"/>
                <a:ext cx="1536120" cy="133560"/>
              </a:xfrm>
              <a:custGeom>
                <a:avLst/>
                <a:gdLst>
                  <a:gd name="textAreaLeft" fmla="*/ 162720 w 1536120"/>
                  <a:gd name="textAreaRight" fmla="*/ 1373400 w 153612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229440" y="4376880"/>
              <a:ext cx="187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相关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84360" y="4724280"/>
            <a:ext cx="1008000" cy="432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48360" y="4653000"/>
            <a:ext cx="1008000" cy="431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26920" y="1916280"/>
            <a:ext cx="3600720" cy="3567240"/>
            <a:chOff x="826920" y="1916280"/>
            <a:chExt cx="3600720" cy="3567240"/>
          </a:xfrm>
        </p:grpSpPr>
        <p:sp>
          <p:nvSpPr>
            <p:cNvPr id="463" name=""/>
            <p:cNvSpPr/>
            <p:nvPr/>
          </p:nvSpPr>
          <p:spPr>
            <a:xfrm>
              <a:off x="826920" y="1916280"/>
              <a:ext cx="3600720" cy="2471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aler Interfac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185840" y="3716280"/>
              <a:ext cx="649080" cy="426600"/>
              <a:chOff x="1185840" y="3716280"/>
              <a:chExt cx="649080" cy="426600"/>
            </a:xfrm>
          </p:grpSpPr>
          <p:sp>
            <p:nvSpPr>
              <p:cNvPr id="465" name=""/>
              <p:cNvSpPr/>
              <p:nvPr/>
            </p:nvSpPr>
            <p:spPr>
              <a:xfrm>
                <a:off x="1185840" y="3716280"/>
                <a:ext cx="64908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185840" y="3769560"/>
                <a:ext cx="64908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1185840" y="3718080"/>
                <a:ext cx="649080" cy="424440"/>
                <a:chOff x="1185840" y="3718080"/>
                <a:chExt cx="649080" cy="4244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1" name=""/>
            <p:cNvGrpSpPr/>
            <p:nvPr/>
          </p:nvGrpSpPr>
          <p:grpSpPr>
            <a:xfrm>
              <a:off x="2338200" y="3716280"/>
              <a:ext cx="649440" cy="426600"/>
              <a:chOff x="2338200" y="3716280"/>
              <a:chExt cx="649440" cy="426600"/>
            </a:xfrm>
          </p:grpSpPr>
          <p:sp>
            <p:nvSpPr>
              <p:cNvPr id="472" name=""/>
              <p:cNvSpPr/>
              <p:nvPr/>
            </p:nvSpPr>
            <p:spPr>
              <a:xfrm>
                <a:off x="233820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3820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2338200" y="3718080"/>
                <a:ext cx="649440" cy="424440"/>
                <a:chOff x="2338200" y="3718080"/>
                <a:chExt cx="649440" cy="4244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3489120" y="3716280"/>
              <a:ext cx="649440" cy="426600"/>
              <a:chOff x="3489120" y="3716280"/>
              <a:chExt cx="649440" cy="426600"/>
            </a:xfrm>
          </p:grpSpPr>
          <p:sp>
            <p:nvSpPr>
              <p:cNvPr id="479" name=""/>
              <p:cNvSpPr/>
              <p:nvPr/>
            </p:nvSpPr>
            <p:spPr>
              <a:xfrm>
                <a:off x="348912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8912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3489120" y="3718080"/>
                <a:ext cx="649440" cy="424440"/>
                <a:chOff x="3489120" y="3718080"/>
                <a:chExt cx="649440" cy="4244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" name=""/>
            <p:cNvSpPr/>
            <p:nvPr/>
          </p:nvSpPr>
          <p:spPr>
            <a:xfrm>
              <a:off x="140328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420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0692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33560" y="50814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8592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0992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786200" y="1916280"/>
            <a:ext cx="3600720" cy="3567240"/>
            <a:chOff x="4786200" y="1916280"/>
            <a:chExt cx="3600720" cy="3567240"/>
          </a:xfrm>
        </p:grpSpPr>
        <p:sp>
          <p:nvSpPr>
            <p:cNvPr id="492" name=""/>
            <p:cNvSpPr/>
            <p:nvPr/>
          </p:nvSpPr>
          <p:spPr>
            <a:xfrm>
              <a:off x="4786200" y="1916280"/>
              <a:ext cx="3600720" cy="2471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aler Interfac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145120" y="3716280"/>
              <a:ext cx="649080" cy="426600"/>
              <a:chOff x="5145120" y="3716280"/>
              <a:chExt cx="649080" cy="426600"/>
            </a:xfrm>
          </p:grpSpPr>
          <p:sp>
            <p:nvSpPr>
              <p:cNvPr id="494" name=""/>
              <p:cNvSpPr/>
              <p:nvPr/>
            </p:nvSpPr>
            <p:spPr>
              <a:xfrm>
                <a:off x="5145120" y="3716280"/>
                <a:ext cx="64908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45120" y="3769560"/>
                <a:ext cx="64908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5145120" y="3718080"/>
                <a:ext cx="649080" cy="424440"/>
                <a:chOff x="5145120" y="3718080"/>
                <a:chExt cx="649080" cy="4244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6297480" y="3716280"/>
              <a:ext cx="649440" cy="426600"/>
              <a:chOff x="6297480" y="3716280"/>
              <a:chExt cx="649440" cy="426600"/>
            </a:xfrm>
          </p:grpSpPr>
          <p:sp>
            <p:nvSpPr>
              <p:cNvPr id="501" name=""/>
              <p:cNvSpPr/>
              <p:nvPr/>
            </p:nvSpPr>
            <p:spPr>
              <a:xfrm>
                <a:off x="629748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9748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6297480" y="3718080"/>
                <a:ext cx="649440" cy="424440"/>
                <a:chOff x="6297480" y="3718080"/>
                <a:chExt cx="649440" cy="4244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7448400" y="3716280"/>
              <a:ext cx="649440" cy="426600"/>
              <a:chOff x="7448400" y="3716280"/>
              <a:chExt cx="649440" cy="426600"/>
            </a:xfrm>
          </p:grpSpPr>
          <p:sp>
            <p:nvSpPr>
              <p:cNvPr id="508" name=""/>
              <p:cNvSpPr/>
              <p:nvPr/>
            </p:nvSpPr>
            <p:spPr>
              <a:xfrm>
                <a:off x="744840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44840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7448400" y="3718080"/>
                <a:ext cx="649440" cy="424440"/>
                <a:chOff x="7448400" y="3718080"/>
                <a:chExt cx="649440" cy="4244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4" name=""/>
            <p:cNvSpPr/>
            <p:nvPr/>
          </p:nvSpPr>
          <p:spPr>
            <a:xfrm>
              <a:off x="536256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348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6620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92840" y="50814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520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6920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24000" y="1341360"/>
            <a:ext cx="8569080" cy="48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-rul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触发拨号连接的条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rul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e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-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{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ermit | deny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拨号接口使用哪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group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55640" y="4060800"/>
            <a:ext cx="7848720" cy="2027160"/>
            <a:chOff x="755640" y="4060800"/>
            <a:chExt cx="7848720" cy="2027160"/>
          </a:xfrm>
        </p:grpSpPr>
        <p:pic>
          <p:nvPicPr>
            <p:cNvPr id="524" name="" descr=""/>
            <p:cNvPicPr/>
            <p:nvPr/>
          </p:nvPicPr>
          <p:blipFill>
            <a:blip r:embed="rId1"/>
            <a:stretch/>
          </p:blipFill>
          <p:spPr>
            <a:xfrm>
              <a:off x="1620720" y="4367160"/>
              <a:ext cx="7444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 flipH="1" rot="2114400">
              <a:off x="4210560" y="4582800"/>
              <a:ext cx="2057760" cy="779400"/>
            </a:xfrm>
            <a:prstGeom prst="lightningBolt">
              <a:avLst/>
            </a:prstGeom>
            <a:solidFill>
              <a:srgbClr val="ffcc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3635280" y="4456080"/>
              <a:ext cx="576360" cy="49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"/>
            <p:cNvGrpSpPr/>
            <p:nvPr/>
          </p:nvGrpSpPr>
          <p:grpSpPr>
            <a:xfrm>
              <a:off x="6083280" y="4924440"/>
              <a:ext cx="2521080" cy="1099800"/>
              <a:chOff x="6083280" y="4924440"/>
              <a:chExt cx="2521080" cy="1099800"/>
            </a:xfrm>
          </p:grpSpPr>
          <p:sp>
            <p:nvSpPr>
              <p:cNvPr id="528" name=""/>
              <p:cNvSpPr/>
              <p:nvPr/>
            </p:nvSpPr>
            <p:spPr>
              <a:xfrm>
                <a:off x="6083280" y="5096880"/>
                <a:ext cx="2521080" cy="92736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5280" y="4924440"/>
                <a:ext cx="2050920" cy="80640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30" name=""/>
            <p:cNvCxnSpPr>
              <a:stCxn id="524" idx="3"/>
              <a:endCxn id="526" idx="1"/>
            </p:cNvCxnSpPr>
            <p:nvPr/>
          </p:nvCxnSpPr>
          <p:spPr>
            <a:xfrm>
              <a:off x="2365200" y="4694400"/>
              <a:ext cx="127080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31" name=""/>
            <p:cNvSpPr/>
            <p:nvPr/>
          </p:nvSpPr>
          <p:spPr>
            <a:xfrm>
              <a:off x="6783480" y="5084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60080" y="4149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5640" y="5448240"/>
              <a:ext cx="9144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0833"/>
                <a:gd name="adj5" fmla="val -82814"/>
                <a:gd name="adj6" fmla="val 133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aler-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52680" y="5478480"/>
              <a:ext cx="91440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50870"/>
                <a:gd name="adj5" fmla="val -123175"/>
                <a:gd name="adj6" fmla="val -949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aler-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接口发出呼叫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enable-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点到点的拨号连接，可以使用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numb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rou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来定义拨号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numb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dial-number 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: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sdnsub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rout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us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broadcas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[dial-number 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: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sdnsub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autodia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logic-channel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ogic-channel-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点到多点的拨号连接，只能 使用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从多点接收呼叫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6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系统视图下配置用户列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ocal-us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user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assword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{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imple | cipher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}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assword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enable-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以及选择验证方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ink-protocol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authentication-mode { chap | pap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远端用户名与协议地址对应关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rout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 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s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从多点发出和接受呼叫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系统视图下配置用户列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ocal-us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user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assword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{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imple | cipher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}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assword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enable-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需要进行验证，请选择验证方式以及配置相应的验证参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远端接口协议地址与用户名及拨号串对应关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rout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 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s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  dial-number[: isdnsubaddress]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轮循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拟银行备份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258920" y="339408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7451640" y="339084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6804000" y="2314440"/>
            <a:ext cx="717480" cy="6177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2195640" y="2314440"/>
            <a:ext cx="717480" cy="61776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898800" y="2098800"/>
            <a:ext cx="1752840" cy="956880"/>
            <a:chOff x="3898800" y="2098800"/>
            <a:chExt cx="1752840" cy="956880"/>
          </a:xfrm>
        </p:grpSpPr>
        <p:sp>
          <p:nvSpPr>
            <p:cNvPr id="548" name=""/>
            <p:cNvSpPr/>
            <p:nvPr/>
          </p:nvSpPr>
          <p:spPr>
            <a:xfrm>
              <a:off x="3898800" y="2248920"/>
              <a:ext cx="175284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5"/>
            <a:stretch/>
          </p:blipFill>
          <p:spPr>
            <a:xfrm>
              <a:off x="3948840" y="2098800"/>
              <a:ext cx="1425960" cy="7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 rot="17326200">
            <a:off x="3386880" y="1915200"/>
            <a:ext cx="42696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7326200">
            <a:off x="5906160" y="1915200"/>
            <a:ext cx="42696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57360" y="21686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>
            <a:stCxn id="543" idx="0"/>
            <a:endCxn id="546" idx="2"/>
          </p:cNvCxnSpPr>
          <p:nvPr/>
        </p:nvCxnSpPr>
        <p:spPr>
          <a:xfrm flipV="1">
            <a:off x="1631880" y="2931480"/>
            <a:ext cx="9230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"/>
          <p:cNvCxnSpPr>
            <a:stCxn id="544" idx="0"/>
            <a:endCxn id="545" idx="2"/>
          </p:cNvCxnSpPr>
          <p:nvPr/>
        </p:nvCxnSpPr>
        <p:spPr>
          <a:xfrm flipH="1" flipV="1">
            <a:off x="7162200" y="2931840"/>
            <a:ext cx="6627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"/>
          <p:cNvCxnSpPr>
            <a:stCxn id="543" idx="3"/>
            <a:endCxn id="544" idx="1"/>
          </p:cNvCxnSpPr>
          <p:nvPr/>
        </p:nvCxnSpPr>
        <p:spPr>
          <a:xfrm flipV="1">
            <a:off x="2003400" y="3717720"/>
            <a:ext cx="5448600" cy="3600"/>
          </a:xfrm>
          <a:prstGeom prst="straightConnector1">
            <a:avLst/>
          </a:prstGeom>
          <a:ln w="38160">
            <a:solidFill>
              <a:srgbClr val="000080"/>
            </a:solidFill>
            <a:miter/>
          </a:ln>
        </p:spPr>
      </p:cxnSp>
      <p:sp>
        <p:nvSpPr>
          <p:cNvPr id="556" name=""/>
          <p:cNvSpPr/>
          <p:nvPr/>
        </p:nvSpPr>
        <p:spPr>
          <a:xfrm>
            <a:off x="244440" y="38988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877520" y="397044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97320" y="3735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5760" y="1773360"/>
            <a:ext cx="14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C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备份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49400" y="26719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88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22560" y="267480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88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63880" y="1917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53240" y="1954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33080" y="30351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68720" y="30351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0720" y="3357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21080" y="3357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7351560" y="4546440"/>
            <a:ext cx="965520" cy="9907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1158840" y="4421160"/>
            <a:ext cx="965160" cy="990720"/>
          </a:xfrm>
          <a:prstGeom prst="rect">
            <a:avLst/>
          </a:prstGeom>
          <a:ln w="0">
            <a:noFill/>
          </a:ln>
        </p:spPr>
      </p:pic>
      <p:cxnSp>
        <p:nvCxnSpPr>
          <p:cNvPr id="570" name=""/>
          <p:cNvCxnSpPr>
            <a:stCxn id="543" idx="2"/>
            <a:endCxn id="569" idx="0"/>
          </p:cNvCxnSpPr>
          <p:nvPr/>
        </p:nvCxnSpPr>
        <p:spPr>
          <a:xfrm>
            <a:off x="1631520" y="4046040"/>
            <a:ext cx="1044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44" idx="2"/>
            <a:endCxn id="568" idx="0"/>
          </p:cNvCxnSpPr>
          <p:nvPr/>
        </p:nvCxnSpPr>
        <p:spPr>
          <a:xfrm>
            <a:off x="7824960" y="4043160"/>
            <a:ext cx="1008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1897920" y="38592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:10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7560" y="3860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:20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48040" y="4938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40760" y="49417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96920" y="5743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营业网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42080" y="561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市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54086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发起呼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0360" y="5805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700360" y="6021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74080" y="59850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全验证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共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为了满足对不同用户定义不同的呼叫服务的需求而提出的。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物理端口的配置和呼叫的逻辑配置分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332000" y="3532320"/>
            <a:ext cx="6764400" cy="2778480"/>
            <a:chOff x="1332000" y="3532320"/>
            <a:chExt cx="6764400" cy="27784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1332000" y="4614840"/>
              <a:ext cx="74448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6" name=""/>
            <p:cNvGrpSpPr/>
            <p:nvPr/>
          </p:nvGrpSpPr>
          <p:grpSpPr>
            <a:xfrm>
              <a:off x="3708360" y="4184640"/>
              <a:ext cx="3239640" cy="2087280"/>
              <a:chOff x="3708360" y="4184640"/>
              <a:chExt cx="3239640" cy="2087280"/>
            </a:xfrm>
          </p:grpSpPr>
          <p:sp>
            <p:nvSpPr>
              <p:cNvPr id="587" name=""/>
              <p:cNvSpPr/>
              <p:nvPr/>
            </p:nvSpPr>
            <p:spPr>
              <a:xfrm>
                <a:off x="3708360" y="4512240"/>
                <a:ext cx="3239640" cy="175968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0880" y="4184640"/>
                <a:ext cx="2635920" cy="15296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89" name=""/>
            <p:cNvCxnSpPr>
              <a:stCxn id="585" idx="3"/>
              <a:endCxn id="588" idx="1"/>
            </p:cNvCxnSpPr>
            <p:nvPr/>
          </p:nvCxnSpPr>
          <p:spPr>
            <a:xfrm>
              <a:off x="2076120" y="4941360"/>
              <a:ext cx="1724760" cy="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0" name=""/>
            <p:cNvCxnSpPr>
              <a:stCxn id="588" idx="1"/>
              <a:endCxn id="588" idx="3"/>
            </p:cNvCxnSpPr>
            <p:nvPr/>
          </p:nvCxnSpPr>
          <p:spPr>
            <a:xfrm>
              <a:off x="3800520" y="4949640"/>
              <a:ext cx="2637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1" name=""/>
            <p:cNvCxnSpPr>
              <a:stCxn id="588" idx="1"/>
              <a:endCxn id="587" idx="5"/>
            </p:cNvCxnSpPr>
            <p:nvPr/>
          </p:nvCxnSpPr>
          <p:spPr>
            <a:xfrm>
              <a:off x="3800520" y="4950000"/>
              <a:ext cx="2674080" cy="10656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2" name=""/>
            <p:cNvCxnSpPr>
              <a:stCxn id="588" idx="1"/>
            </p:cNvCxnSpPr>
            <p:nvPr/>
          </p:nvCxnSpPr>
          <p:spPr>
            <a:xfrm flipV="1">
              <a:off x="3800520" y="3750840"/>
              <a:ext cx="2572560" cy="11995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3" name=""/>
            <p:cNvSpPr/>
            <p:nvPr/>
          </p:nvSpPr>
          <p:spPr>
            <a:xfrm>
              <a:off x="5818320" y="353232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50200" y="475920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89840" y="591192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52000" y="457848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97560" y="396396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53120" y="461484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13480" y="547992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共享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各元素之间的关系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900000" y="1192320"/>
            <a:ext cx="2156040" cy="941400"/>
            <a:chOff x="900000" y="1192320"/>
            <a:chExt cx="2156040" cy="941400"/>
          </a:xfrm>
        </p:grpSpPr>
        <p:sp>
          <p:nvSpPr>
            <p:cNvPr id="602" name=""/>
            <p:cNvSpPr/>
            <p:nvPr/>
          </p:nvSpPr>
          <p:spPr>
            <a:xfrm>
              <a:off x="2165760" y="1859040"/>
              <a:ext cx="890280" cy="27468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2880" y="1305720"/>
              <a:ext cx="1787760" cy="826920"/>
            </a:xfrm>
            <a:prstGeom prst="rect">
              <a:avLst/>
            </a:prstGeom>
            <a:gradFill rotWithShape="0">
              <a:gsLst>
                <a:gs pos="0">
                  <a:srgbClr val="011244"/>
                </a:gs>
                <a:gs pos="50000">
                  <a:srgbClr val="063de8"/>
                </a:gs>
                <a:gs pos="100000">
                  <a:srgbClr val="011244"/>
                </a:gs>
              </a:gsLst>
              <a:lin ang="135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0000" y="1196280"/>
              <a:ext cx="1851120" cy="10908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90640" y="1192320"/>
              <a:ext cx="68040" cy="9403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551400" y="1197000"/>
            <a:ext cx="2315520" cy="906480"/>
            <a:chOff x="3551400" y="1197000"/>
            <a:chExt cx="2315520" cy="906480"/>
          </a:xfrm>
        </p:grpSpPr>
        <p:sp>
          <p:nvSpPr>
            <p:cNvPr id="607" name=""/>
            <p:cNvSpPr/>
            <p:nvPr/>
          </p:nvSpPr>
          <p:spPr>
            <a:xfrm>
              <a:off x="4901400" y="1838880"/>
              <a:ext cx="965520" cy="2646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54280" y="1306080"/>
              <a:ext cx="1938960" cy="797040"/>
            </a:xfrm>
            <a:prstGeom prst="rect">
              <a:avLst/>
            </a:prstGeom>
            <a:gradFill rotWithShape="0">
              <a:gsLst>
                <a:gs pos="0">
                  <a:srgbClr val="240043"/>
                </a:gs>
                <a:gs pos="50000">
                  <a:srgbClr val="7b00e4"/>
                </a:gs>
                <a:gs pos="100000">
                  <a:srgbClr val="240043"/>
                </a:gs>
              </a:gsLst>
              <a:lin ang="135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51400" y="1200960"/>
              <a:ext cx="2007720" cy="10512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93600" y="1197000"/>
              <a:ext cx="73800" cy="90648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359400" y="1197000"/>
            <a:ext cx="2315880" cy="906480"/>
            <a:chOff x="6359400" y="1197000"/>
            <a:chExt cx="2315880" cy="906480"/>
          </a:xfrm>
        </p:grpSpPr>
        <p:sp>
          <p:nvSpPr>
            <p:cNvPr id="612" name=""/>
            <p:cNvSpPr/>
            <p:nvPr/>
          </p:nvSpPr>
          <p:spPr>
            <a:xfrm>
              <a:off x="7707600" y="1838880"/>
              <a:ext cx="967680" cy="2646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62280" y="1306080"/>
              <a:ext cx="1943280" cy="797040"/>
            </a:xfrm>
            <a:prstGeom prst="rect">
              <a:avLst/>
            </a:prstGeom>
            <a:gradFill rotWithShape="0">
              <a:gsLst>
                <a:gs pos="0">
                  <a:srgbClr val="062815"/>
                </a:gs>
                <a:gs pos="50000">
                  <a:srgbClr val="158a47"/>
                </a:gs>
                <a:gs pos="100000">
                  <a:srgbClr val="062815"/>
                </a:gs>
              </a:gsLst>
              <a:lin ang="135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59400" y="1200960"/>
              <a:ext cx="2011680" cy="10512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1bb15b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05560" y="1197000"/>
              <a:ext cx="73800" cy="90648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f6333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68360" y="3716280"/>
            <a:ext cx="3816360" cy="1225440"/>
          </a:xfrm>
          <a:prstGeom prst="ellipse">
            <a:avLst/>
          </a:prstGeom>
          <a:solidFill>
            <a:srgbClr val="80008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1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03640" y="3716280"/>
            <a:ext cx="3816360" cy="1225440"/>
          </a:xfrm>
          <a:prstGeom prst="ellipse">
            <a:avLst/>
          </a:prstGeom>
          <a:solidFill>
            <a:srgbClr val="33996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27280" y="3429000"/>
            <a:ext cx="4176720" cy="1728720"/>
          </a:xfrm>
          <a:prstGeom prst="ellipse">
            <a:avLst/>
          </a:prstGeom>
          <a:solidFill>
            <a:srgbClr val="0000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2                   Serial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9" name=""/>
          <p:cNvCxnSpPr>
            <a:stCxn id="608" idx="2"/>
            <a:endCxn id="616" idx="0"/>
          </p:cNvCxnSpPr>
          <p:nvPr/>
        </p:nvCxnSpPr>
        <p:spPr>
          <a:xfrm rot="5400000">
            <a:off x="2643120" y="1835640"/>
            <a:ext cx="1613520" cy="21488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3" idx="2"/>
            <a:endCxn id="618" idx="0"/>
          </p:cNvCxnSpPr>
          <p:nvPr/>
        </p:nvCxnSpPr>
        <p:spPr>
          <a:xfrm flipH="1" rot="16200000">
            <a:off x="2607120" y="1320480"/>
            <a:ext cx="1297800" cy="29199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3" idx="2"/>
            <a:endCxn id="617" idx="0"/>
          </p:cNvCxnSpPr>
          <p:nvPr/>
        </p:nvCxnSpPr>
        <p:spPr>
          <a:xfrm rot="5400000">
            <a:off x="6315840" y="2698560"/>
            <a:ext cx="1613520" cy="4230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941760" y="125892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37080" y="119700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18520" y="119700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5120" y="568332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aler bund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32440" y="56610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aler bund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132960" y="56466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Dialer bundle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4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4800600" cy="30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DCC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的基本功能及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DCC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的基本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SDN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技术的一些基本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SDN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接口和协议的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100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共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性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物理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826920" y="3284640"/>
            <a:ext cx="7632720" cy="2952720"/>
            <a:chOff x="826920" y="3284640"/>
            <a:chExt cx="7632720" cy="295272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tretch/>
          </p:blipFill>
          <p:spPr>
            <a:xfrm>
              <a:off x="826920" y="3284640"/>
              <a:ext cx="19782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"/>
            <a:stretch/>
          </p:blipFill>
          <p:spPr>
            <a:xfrm>
              <a:off x="3564000" y="3287880"/>
              <a:ext cx="1977840" cy="12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6481800" y="3284640"/>
              <a:ext cx="1977840" cy="12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3587760" y="5289480"/>
              <a:ext cx="201600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843280" y="3645000"/>
              <a:ext cx="718920" cy="503280"/>
            </a:xfrm>
            <a:custGeom>
              <a:avLst/>
              <a:gdLst>
                <a:gd name="textAreaLeft" fmla="*/ 112320 w 718920"/>
                <a:gd name="textAreaRight" fmla="*/ 629280 w 718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6200000">
              <a:off x="4176720" y="4618080"/>
              <a:ext cx="719280" cy="50328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0800000">
              <a:off x="5724360" y="3645000"/>
              <a:ext cx="719280" cy="50328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87280" y="37497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33640" y="3556080"/>
              <a:ext cx="124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ialer-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92600" y="5319720"/>
              <a:ext cx="143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相应的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CC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特性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20080" y="355608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物理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04760" y="3573360"/>
              <a:ext cx="171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ia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 interfa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836280"/>
            <a:ext cx="739152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 dial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以及选择验证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ink-protocol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HAP or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能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及设置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us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user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numb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-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相应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bund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bundl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于一个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ircula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特性参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7391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链路空闲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imer idl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忙端口的链路空闲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imer compet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链路断开后重新拨号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imer enabl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端口数据发送的最大等待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imer wait-carri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物理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入物理接口配置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ink-protocol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authentication-mod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hap |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接口属于哪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ircula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共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支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配置流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hreshold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traffic-percentag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-out | in | ou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配置流控阈值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接口上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视图下配置流量检测周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low-interva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共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3915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举例：一个串口既可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可用来与远端路由器拨号互连。配置举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99640" y="2492280"/>
            <a:ext cx="7493760" cy="3742920"/>
            <a:chOff x="899640" y="2492280"/>
            <a:chExt cx="7493760" cy="374292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1476360" y="537336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7524720" y="537192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3"/>
            <a:stretch/>
          </p:blipFill>
          <p:spPr>
            <a:xfrm>
              <a:off x="5292720" y="285084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4"/>
            <a:stretch/>
          </p:blipFill>
          <p:spPr>
            <a:xfrm>
              <a:off x="2771640" y="5445000"/>
              <a:ext cx="4050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4645080" y="2923920"/>
              <a:ext cx="404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6"/>
            <a:stretch/>
          </p:blipFill>
          <p:spPr>
            <a:xfrm>
              <a:off x="6372360" y="5443200"/>
              <a:ext cx="404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7"/>
            <a:stretch/>
          </p:blipFill>
          <p:spPr>
            <a:xfrm>
              <a:off x="971640" y="3692160"/>
              <a:ext cx="65412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8"/>
            <a:stretch/>
          </p:blipFill>
          <p:spPr>
            <a:xfrm>
              <a:off x="2117880" y="3692160"/>
              <a:ext cx="653760" cy="671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2" name=""/>
            <p:cNvCxnSpPr>
              <a:stCxn id="654" idx="3"/>
              <a:endCxn id="657" idx="1"/>
            </p:cNvCxnSpPr>
            <p:nvPr/>
          </p:nvCxnSpPr>
          <p:spPr>
            <a:xfrm flipV="1">
              <a:off x="2050920" y="5618880"/>
              <a:ext cx="72144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3" name=""/>
            <p:cNvCxnSpPr>
              <a:stCxn id="659" idx="3"/>
              <a:endCxn id="655" idx="1"/>
            </p:cNvCxnSpPr>
            <p:nvPr/>
          </p:nvCxnSpPr>
          <p:spPr>
            <a:xfrm>
              <a:off x="6776640" y="5617800"/>
              <a:ext cx="74844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4" name=""/>
            <p:cNvCxnSpPr/>
            <p:nvPr/>
          </p:nvCxnSpPr>
          <p:spPr>
            <a:xfrm>
              <a:off x="899640" y="4795200"/>
              <a:ext cx="187236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65" name=""/>
            <p:cNvSpPr/>
            <p:nvPr/>
          </p:nvSpPr>
          <p:spPr>
            <a:xfrm>
              <a:off x="1258920" y="436392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11280" y="436392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63640" y="4795560"/>
              <a:ext cx="0" cy="647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22320" y="47448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60800" y="4243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83000" y="4278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11120" y="586260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3924360" y="5278320"/>
              <a:ext cx="1752480" cy="956880"/>
              <a:chOff x="3924360" y="5278320"/>
              <a:chExt cx="1752480" cy="956880"/>
            </a:xfrm>
          </p:grpSpPr>
          <p:sp>
            <p:nvSpPr>
              <p:cNvPr id="673" name=""/>
              <p:cNvSpPr/>
              <p:nvPr/>
            </p:nvSpPr>
            <p:spPr>
              <a:xfrm>
                <a:off x="3924360" y="5428440"/>
                <a:ext cx="1752480" cy="80676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74400" y="5278320"/>
                <a:ext cx="1425600" cy="7016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675" name=""/>
            <p:cNvCxnSpPr>
              <a:stCxn id="657" idx="3"/>
              <a:endCxn id="674" idx="1"/>
            </p:cNvCxnSpPr>
            <p:nvPr/>
          </p:nvCxnSpPr>
          <p:spPr>
            <a:xfrm>
              <a:off x="3176640" y="5619600"/>
              <a:ext cx="79920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6" name=""/>
            <p:cNvCxnSpPr>
              <a:stCxn id="674" idx="3"/>
              <a:endCxn id="659" idx="1"/>
            </p:cNvCxnSpPr>
            <p:nvPr/>
          </p:nvCxnSpPr>
          <p:spPr>
            <a:xfrm flipV="1">
              <a:off x="5400360" y="5617080"/>
              <a:ext cx="9723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7" name=""/>
            <p:cNvSpPr/>
            <p:nvPr/>
          </p:nvSpPr>
          <p:spPr>
            <a:xfrm>
              <a:off x="4314960" y="53686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8" name=""/>
            <p:cNvGraphicFramePr/>
            <p:nvPr/>
          </p:nvGraphicFramePr>
          <p:xfrm>
            <a:off x="5580000" y="4076640"/>
            <a:ext cx="447840" cy="668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80000" y="4076640"/>
                      <a:ext cx="447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80" name=""/>
            <p:cNvCxnSpPr>
              <a:stCxn id="674" idx="0"/>
            </p:cNvCxnSpPr>
            <p:nvPr/>
          </p:nvCxnSpPr>
          <p:spPr>
            <a:xfrm flipV="1">
              <a:off x="4687920" y="4411080"/>
              <a:ext cx="892800" cy="86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681" name="" descr=""/>
            <p:cNvPicPr/>
            <p:nvPr/>
          </p:nvPicPr>
          <p:blipFill>
            <a:blip r:embed="rId12"/>
            <a:stretch/>
          </p:blipFill>
          <p:spPr>
            <a:xfrm>
              <a:off x="6156360" y="2766960"/>
              <a:ext cx="1219320" cy="949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2" name=""/>
            <p:cNvCxnSpPr>
              <a:endCxn id="681" idx="2"/>
            </p:cNvCxnSpPr>
            <p:nvPr/>
          </p:nvCxnSpPr>
          <p:spPr>
            <a:xfrm flipV="1">
              <a:off x="6027840" y="3715920"/>
              <a:ext cx="738720" cy="69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3" name=""/>
            <p:cNvSpPr/>
            <p:nvPr/>
          </p:nvSpPr>
          <p:spPr>
            <a:xfrm>
              <a:off x="6237000" y="299376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87600" y="5725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61040" y="5725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16640" y="580356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68440" y="47178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NAS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服务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00320" y="5227560"/>
              <a:ext cx="8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8100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48320" y="5227560"/>
              <a:ext cx="8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8100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0560" y="4292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05080" y="24922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2" name=""/>
            <p:cNvCxnSpPr>
              <a:stCxn id="658" idx="3"/>
              <a:endCxn id="656" idx="1"/>
            </p:cNvCxnSpPr>
            <p:nvPr/>
          </p:nvCxnSpPr>
          <p:spPr>
            <a:xfrm>
              <a:off x="5049360" y="3098160"/>
              <a:ext cx="24372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3" name=""/>
            <p:cNvSpPr/>
            <p:nvPr/>
          </p:nvSpPr>
          <p:spPr>
            <a:xfrm>
              <a:off x="5651640" y="3427200"/>
              <a:ext cx="7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58920" y="2492280"/>
              <a:ext cx="2376360" cy="1152360"/>
            </a:xfrm>
            <a:solidFill>
              <a:srgbClr val="00cc99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可以用另外一个路由器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来模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接入服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监控和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splay dial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[interface-type interface-numb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调试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ebugging dialer ev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显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呼叫建立信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ebugging dialer pack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显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包发送信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注意事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配置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dialer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异步串口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层地址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方式下，接收入呼叫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轮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方式下，接收入呼叫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技术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代发展起来的全数字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端到端的数字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TU-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用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接口规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79388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00000" y="1125360"/>
            <a:ext cx="1871640" cy="1152720"/>
            <a:chOff x="900000" y="1125360"/>
            <a:chExt cx="1871640" cy="1152720"/>
          </a:xfrm>
        </p:grpSpPr>
        <p:pic>
          <p:nvPicPr>
            <p:cNvPr id="704" name="" descr=""/>
            <p:cNvPicPr/>
            <p:nvPr/>
          </p:nvPicPr>
          <p:blipFill>
            <a:blip r:embed="rId1"/>
            <a:stretch/>
          </p:blipFill>
          <p:spPr>
            <a:xfrm>
              <a:off x="900000" y="1125360"/>
              <a:ext cx="1871640" cy="115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"/>
            <p:cNvGrpSpPr/>
            <p:nvPr/>
          </p:nvGrpSpPr>
          <p:grpSpPr>
            <a:xfrm>
              <a:off x="1756800" y="1585440"/>
              <a:ext cx="347760" cy="442080"/>
              <a:chOff x="1756800" y="1585440"/>
              <a:chExt cx="347760" cy="442080"/>
            </a:xfrm>
          </p:grpSpPr>
          <p:pic>
            <p:nvPicPr>
              <p:cNvPr id="7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1586880"/>
                <a:ext cx="201240" cy="16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6800" y="1585440"/>
                <a:ext cx="270720" cy="44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8" name="" descr=""/>
            <p:cNvPicPr/>
            <p:nvPr/>
          </p:nvPicPr>
          <p:blipFill>
            <a:blip r:embed="rId4"/>
            <a:stretch/>
          </p:blipFill>
          <p:spPr>
            <a:xfrm>
              <a:off x="2142000" y="1585440"/>
              <a:ext cx="1497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"/>
          <p:cNvGrpSpPr/>
          <p:nvPr/>
        </p:nvGrpSpPr>
        <p:grpSpPr>
          <a:xfrm>
            <a:off x="6516720" y="2205000"/>
            <a:ext cx="519120" cy="1219320"/>
            <a:chOff x="6516720" y="2205000"/>
            <a:chExt cx="519120" cy="1219320"/>
          </a:xfrm>
        </p:grpSpPr>
        <p:sp>
          <p:nvSpPr>
            <p:cNvPr id="710" name=""/>
            <p:cNvSpPr/>
            <p:nvPr/>
          </p:nvSpPr>
          <p:spPr>
            <a:xfrm>
              <a:off x="6598440" y="2280960"/>
              <a:ext cx="4060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5"/>
            <a:stretch/>
          </p:blipFill>
          <p:spPr>
            <a:xfrm>
              <a:off x="6516720" y="2205000"/>
              <a:ext cx="5191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2" name="" descr=""/>
          <p:cNvPicPr/>
          <p:nvPr/>
        </p:nvPicPr>
        <p:blipFill>
          <a:blip r:embed="rId6"/>
          <a:stretch/>
        </p:blipFill>
        <p:spPr>
          <a:xfrm>
            <a:off x="5595840" y="2637000"/>
            <a:ext cx="488880" cy="347400"/>
          </a:xfrm>
          <a:prstGeom prst="rect">
            <a:avLst/>
          </a:prstGeom>
          <a:ln w="0">
            <a:noFill/>
          </a:ln>
        </p:spPr>
      </p:pic>
      <p:grpSp>
        <p:nvGrpSpPr>
          <p:cNvPr id="713" name=""/>
          <p:cNvGrpSpPr/>
          <p:nvPr/>
        </p:nvGrpSpPr>
        <p:grpSpPr>
          <a:xfrm>
            <a:off x="7308720" y="2421000"/>
            <a:ext cx="1600200" cy="574200"/>
            <a:chOff x="7308720" y="2421000"/>
            <a:chExt cx="1600200" cy="574200"/>
          </a:xfrm>
        </p:grpSpPr>
        <p:sp>
          <p:nvSpPr>
            <p:cNvPr id="714" name=""/>
            <p:cNvSpPr/>
            <p:nvPr/>
          </p:nvSpPr>
          <p:spPr>
            <a:xfrm>
              <a:off x="7308720" y="260496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54600" y="286524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7716960" y="272808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8047080" y="272268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7677720" y="2543760"/>
              <a:ext cx="212760" cy="275760"/>
              <a:chOff x="7677720" y="2543760"/>
              <a:chExt cx="212760" cy="27576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7677720" y="2712240"/>
                <a:ext cx="212760" cy="107280"/>
                <a:chOff x="7677720" y="2712240"/>
                <a:chExt cx="212760" cy="1072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7677720" y="27169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677720" y="27122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7677720" y="2681640"/>
                <a:ext cx="212760" cy="107280"/>
                <a:chOff x="7677720" y="2681640"/>
                <a:chExt cx="212760" cy="1072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677720" y="2686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677720" y="2681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677720" y="2651400"/>
                <a:ext cx="212760" cy="107280"/>
                <a:chOff x="7677720" y="2651400"/>
                <a:chExt cx="212760" cy="1072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677720" y="265608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677720" y="265140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7677720" y="2617920"/>
                <a:ext cx="212760" cy="107280"/>
                <a:chOff x="7677720" y="2617920"/>
                <a:chExt cx="212760" cy="1072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7677720" y="26226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677720" y="26179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7677720" y="2584440"/>
                <a:ext cx="212760" cy="107280"/>
                <a:chOff x="7677720" y="2584440"/>
                <a:chExt cx="212760" cy="1072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677720" y="25891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677720" y="25844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7677720" y="2543760"/>
                <a:ext cx="212760" cy="107280"/>
                <a:chOff x="7677720" y="2543760"/>
                <a:chExt cx="212760" cy="1072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7677720" y="25484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677720" y="25437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8231760" y="2421000"/>
              <a:ext cx="492840" cy="514080"/>
              <a:chOff x="8231760" y="2421000"/>
              <a:chExt cx="492840" cy="514080"/>
            </a:xfrm>
          </p:grpSpPr>
          <p:pic>
            <p:nvPicPr>
              <p:cNvPr id="73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397000" y="242100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231760" y="265500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"/>
            <p:cNvGrpSpPr/>
            <p:nvPr/>
          </p:nvGrpSpPr>
          <p:grpSpPr>
            <a:xfrm>
              <a:off x="7983000" y="2543760"/>
              <a:ext cx="225360" cy="256680"/>
              <a:chOff x="7983000" y="2543760"/>
              <a:chExt cx="225360" cy="25668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7983000" y="2675520"/>
                <a:ext cx="225360" cy="124920"/>
                <a:chOff x="7983000" y="2675520"/>
                <a:chExt cx="225360" cy="12492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83000" y="26874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983000" y="26755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7983000" y="2649240"/>
                <a:ext cx="225360" cy="124920"/>
                <a:chOff x="7983000" y="2649240"/>
                <a:chExt cx="225360" cy="1249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7983000" y="2661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983000" y="2649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7983000" y="2622600"/>
                <a:ext cx="225360" cy="124920"/>
                <a:chOff x="7983000" y="2622600"/>
                <a:chExt cx="225360" cy="1249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983000" y="263448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983000" y="262260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7983000" y="2596320"/>
                <a:ext cx="225360" cy="124920"/>
                <a:chOff x="7983000" y="2596320"/>
                <a:chExt cx="225360" cy="1249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7983000" y="2608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983000" y="2596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7983000" y="2570040"/>
                <a:ext cx="225360" cy="124920"/>
                <a:chOff x="7983000" y="2570040"/>
                <a:chExt cx="225360" cy="12492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983000" y="2581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983000" y="2570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983000" y="2543760"/>
                <a:ext cx="225360" cy="124920"/>
                <a:chOff x="7983000" y="2543760"/>
                <a:chExt cx="225360" cy="124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983000" y="2555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983000" y="2543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9" name=""/>
          <p:cNvSpPr/>
          <p:nvPr/>
        </p:nvSpPr>
        <p:spPr>
          <a:xfrm>
            <a:off x="7234560" y="3092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ervice-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0" name=""/>
          <p:cNvCxnSpPr>
            <a:stCxn id="712" idx="3"/>
            <a:endCxn id="711" idx="1"/>
          </p:cNvCxnSpPr>
          <p:nvPr/>
        </p:nvCxnSpPr>
        <p:spPr>
          <a:xfrm>
            <a:off x="6084720" y="2811600"/>
            <a:ext cx="43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11" idx="3"/>
            <a:endCxn id="714" idx="5"/>
          </p:cNvCxnSpPr>
          <p:nvPr/>
        </p:nvCxnSpPr>
        <p:spPr>
          <a:xfrm flipV="1">
            <a:off x="7035840" y="2799720"/>
            <a:ext cx="42768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"/>
          <p:cNvSpPr/>
          <p:nvPr/>
        </p:nvSpPr>
        <p:spPr>
          <a:xfrm flipH="1" rot="3150000">
            <a:off x="2241360" y="2231640"/>
            <a:ext cx="1334880" cy="4176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76720" y="2565360"/>
            <a:ext cx="1871640" cy="1028520"/>
            <a:chOff x="3276720" y="2565360"/>
            <a:chExt cx="1871640" cy="1028520"/>
          </a:xfrm>
        </p:grpSpPr>
        <p:sp>
          <p:nvSpPr>
            <p:cNvPr id="764" name=""/>
            <p:cNvSpPr/>
            <p:nvPr/>
          </p:nvSpPr>
          <p:spPr>
            <a:xfrm>
              <a:off x="3276720" y="2726640"/>
              <a:ext cx="1871640" cy="8672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9"/>
            <a:stretch/>
          </p:blipFill>
          <p:spPr>
            <a:xfrm>
              <a:off x="3330000" y="2565360"/>
              <a:ext cx="152280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"/>
          <p:cNvSpPr/>
          <p:nvPr/>
        </p:nvSpPr>
        <p:spPr>
          <a:xfrm>
            <a:off x="3709440" y="2671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stCxn id="765" idx="3"/>
            <a:endCxn id="712" idx="1"/>
          </p:cNvCxnSpPr>
          <p:nvPr/>
        </p:nvCxnSpPr>
        <p:spPr>
          <a:xfrm flipV="1">
            <a:off x="4852800" y="2811240"/>
            <a:ext cx="74340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5508720" y="1989000"/>
            <a:ext cx="3456000" cy="180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5520" y="229860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SOHO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493600" y="134136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NAS (Network Access 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00000" y="3933720"/>
            <a:ext cx="739152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可用带宽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需拨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快速联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高性价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全特性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P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适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是协议，也没有相应的国际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76720" y="4005360"/>
          <a:ext cx="289584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4005360"/>
                    <a:ext cx="289584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3619440" cy="18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速率接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B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一物理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条逻辑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端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6480" y="1483920"/>
            <a:ext cx="3619440" cy="18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群速率接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P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一物理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逻辑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节点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1667520" y="3501000"/>
            <a:ext cx="720720" cy="1439640"/>
          </a:xfrm>
          <a:prstGeom prst="can">
            <a:avLst>
              <a:gd name="adj" fmla="val 86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5867280" y="3357000"/>
            <a:ext cx="1297080" cy="2303640"/>
          </a:xfrm>
          <a:prstGeom prst="can">
            <a:avLst>
              <a:gd name="adj" fmla="val 86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731880" y="4005360"/>
            <a:ext cx="2476440" cy="12528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731880" y="4095720"/>
            <a:ext cx="2476440" cy="1252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714920" y="4005360"/>
            <a:ext cx="3411360" cy="1443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803160" y="4437000"/>
            <a:ext cx="244800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88000" y="5013360"/>
            <a:ext cx="360036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4714920" y="4149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4714920" y="4149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4643280" y="4221000"/>
            <a:ext cx="3411720" cy="13824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4930920" y="4365720"/>
            <a:ext cx="3411360" cy="1378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4572000" y="3933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4930920" y="4149720"/>
            <a:ext cx="3411360" cy="1382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252360" y="3824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3360" y="425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30840" y="3668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61080" y="4430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96720" y="3789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57440" y="49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174160" y="515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58520" y="3716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*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35240" y="51577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4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26040" y="53737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TU-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84360" y="1585800"/>
            <a:ext cx="8243640" cy="4076640"/>
            <a:chOff x="684360" y="1585800"/>
            <a:chExt cx="8243640" cy="4076640"/>
          </a:xfrm>
        </p:grpSpPr>
        <p:sp>
          <p:nvSpPr>
            <p:cNvPr id="802" name=""/>
            <p:cNvSpPr/>
            <p:nvPr/>
          </p:nvSpPr>
          <p:spPr>
            <a:xfrm rot="16200000">
              <a:off x="2844000" y="2275560"/>
              <a:ext cx="2806560" cy="1944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00000">
              <a:off x="3348720" y="2780280"/>
              <a:ext cx="2806920" cy="194436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"/>
            <p:cNvCxnSpPr/>
            <p:nvPr/>
          </p:nvCxnSpPr>
          <p:spPr>
            <a:xfrm>
              <a:off x="5580000" y="1843200"/>
              <a:ext cx="1008720" cy="10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endCxn id="806" idx="0"/>
            </p:cNvCxnSpPr>
            <p:nvPr/>
          </p:nvCxnSpPr>
          <p:spPr>
            <a:xfrm>
              <a:off x="6587640" y="2852280"/>
              <a:ext cx="1080" cy="23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7" name=""/>
            <p:cNvSpPr/>
            <p:nvPr/>
          </p:nvSpPr>
          <p:spPr>
            <a:xfrm>
              <a:off x="4716360" y="184464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24360" y="2852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24360" y="5157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052720" y="4149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5272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52720" y="4149720"/>
              <a:ext cx="863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16360" y="51577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84000" y="4653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52720" y="4653000"/>
              <a:ext cx="86364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16360" y="5157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16360" y="566244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76720" y="5157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76720" y="213372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84720" y="31417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76720" y="249228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6720" y="285264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76720" y="321300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6720" y="357336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76720" y="3860640"/>
              <a:ext cx="1008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84720" y="3500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84720" y="38606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84720" y="4221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84720" y="4581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84720" y="4869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4360" y="465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72960" y="28526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60360" y="31640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60360" y="3524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0360" y="38847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60360" y="4245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60360" y="4532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60360" y="4821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44720" y="2421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800" y="2133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97080" y="1844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75160" y="5208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物理媒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4360" y="1585800"/>
              <a:ext cx="1147680" cy="474840"/>
            </a:xfrm>
            <a:solidFill>
              <a:srgbClr val="00cc99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控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49280" y="3098880"/>
              <a:ext cx="914400" cy="401400"/>
            </a:xfrm>
            <a:solidFill>
              <a:srgbClr val="0000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用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36000" y="1916280"/>
              <a:ext cx="1692000" cy="433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的用户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网络接口规范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989440" y="3286080"/>
            <a:ext cx="934920" cy="701640"/>
            <a:chOff x="2989440" y="3286080"/>
            <a:chExt cx="934920" cy="701640"/>
          </a:xfrm>
        </p:grpSpPr>
        <p:sp>
          <p:nvSpPr>
            <p:cNvPr id="848" name=""/>
            <p:cNvSpPr/>
            <p:nvPr/>
          </p:nvSpPr>
          <p:spPr>
            <a:xfrm>
              <a:off x="300132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8944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0672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8944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98944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1260360" y="4799160"/>
            <a:ext cx="935280" cy="701640"/>
            <a:chOff x="1260360" y="4799160"/>
            <a:chExt cx="935280" cy="701640"/>
          </a:xfrm>
        </p:grpSpPr>
        <p:sp>
          <p:nvSpPr>
            <p:cNvPr id="854" name=""/>
            <p:cNvSpPr/>
            <p:nvPr/>
          </p:nvSpPr>
          <p:spPr>
            <a:xfrm>
              <a:off x="1272240" y="4802760"/>
              <a:ext cx="92340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60360" y="479916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78000" y="479916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60360" y="4799160"/>
              <a:ext cx="935280" cy="18000"/>
            </a:xfrm>
            <a:custGeom>
              <a:avLst/>
              <a:gdLst>
                <a:gd name="textAreaLeft" fmla="*/ 83880 w 935280"/>
                <a:gd name="textAreaRight" fmla="*/ 851400 w 9352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260360" y="5482800"/>
              <a:ext cx="930240" cy="18000"/>
            </a:xfrm>
            <a:custGeom>
              <a:avLst/>
              <a:gdLst>
                <a:gd name="textAreaLeft" fmla="*/ 89280 w 930240"/>
                <a:gd name="textAreaRight" fmla="*/ 840960 w 93024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989440" y="4799160"/>
            <a:ext cx="934920" cy="701640"/>
            <a:chOff x="2989440" y="4799160"/>
            <a:chExt cx="934920" cy="701640"/>
          </a:xfrm>
        </p:grpSpPr>
        <p:sp>
          <p:nvSpPr>
            <p:cNvPr id="860" name=""/>
            <p:cNvSpPr/>
            <p:nvPr/>
          </p:nvSpPr>
          <p:spPr>
            <a:xfrm>
              <a:off x="3001320" y="480276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89440" y="479916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06720" y="479916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89440" y="479916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989440" y="548280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149800" y="3286080"/>
            <a:ext cx="934920" cy="701640"/>
            <a:chOff x="5149800" y="3286080"/>
            <a:chExt cx="934920" cy="701640"/>
          </a:xfrm>
        </p:grpSpPr>
        <p:sp>
          <p:nvSpPr>
            <p:cNvPr id="866" name=""/>
            <p:cNvSpPr/>
            <p:nvPr/>
          </p:nvSpPr>
          <p:spPr>
            <a:xfrm>
              <a:off x="516168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4980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6708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14980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094520" y="3286080"/>
            <a:ext cx="934920" cy="701640"/>
            <a:chOff x="7094520" y="3286080"/>
            <a:chExt cx="934920" cy="701640"/>
          </a:xfrm>
        </p:grpSpPr>
        <p:sp>
          <p:nvSpPr>
            <p:cNvPr id="872" name=""/>
            <p:cNvSpPr/>
            <p:nvPr/>
          </p:nvSpPr>
          <p:spPr>
            <a:xfrm>
              <a:off x="710640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9452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1180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9452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09452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8029440" y="36464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532720" y="30700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66" idx="3"/>
            <a:endCxn id="873" idx="1"/>
          </p:cNvCxnSpPr>
          <p:nvPr/>
        </p:nvCxnSpPr>
        <p:spPr>
          <a:xfrm flipV="1">
            <a:off x="6084360" y="3634560"/>
            <a:ext cx="1010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67" idx="1"/>
            <a:endCxn id="848" idx="3"/>
          </p:cNvCxnSpPr>
          <p:nvPr/>
        </p:nvCxnSpPr>
        <p:spPr>
          <a:xfrm flipH="1">
            <a:off x="3924000" y="3634920"/>
            <a:ext cx="1226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48" idx="2"/>
            <a:endCxn id="863" idx="1"/>
          </p:cNvCxnSpPr>
          <p:nvPr/>
        </p:nvCxnSpPr>
        <p:spPr>
          <a:xfrm flipH="1">
            <a:off x="3457080" y="3987360"/>
            <a:ext cx="72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54" idx="3"/>
            <a:endCxn id="861" idx="3"/>
          </p:cNvCxnSpPr>
          <p:nvPr/>
        </p:nvCxnSpPr>
        <p:spPr>
          <a:xfrm flipV="1">
            <a:off x="2195280" y="5147640"/>
            <a:ext cx="811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6588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00720" y="31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24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00720" y="46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29080" y="46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16200000">
            <a:off x="7595280" y="3383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21240" y="3392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413000" y="49417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97520" y="4941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41720" y="3429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94160" y="3429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10600" y="421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74160" y="418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86160" y="573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321080" y="42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04800" y="565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356000" y="158760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480" y="5201"/>
                </a:moveTo>
                <a:lnTo>
                  <a:pt x="25260" y="5201"/>
                </a:lnTo>
                <a:lnTo>
                  <a:pt x="25260" y="67473"/>
                </a:lnTo>
                <a:lnTo>
                  <a:pt x="16320" y="12974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32720" y="1557360"/>
            <a:ext cx="5713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480" y="5201"/>
                </a:moveTo>
                <a:lnTo>
                  <a:pt x="27900" y="5201"/>
                </a:lnTo>
                <a:lnTo>
                  <a:pt x="27900" y="47968"/>
                </a:lnTo>
                <a:lnTo>
                  <a:pt x="-780" y="8553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29080" y="1557360"/>
            <a:ext cx="5713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47607"/>
                </a:lnTo>
                <a:lnTo>
                  <a:pt x="10740" y="90012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620720" y="163044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76575"/>
                </a:lnTo>
                <a:lnTo>
                  <a:pt x="36720" y="14802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2720" y="163044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83149"/>
                </a:lnTo>
                <a:lnTo>
                  <a:pt x="19380" y="16124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终端设备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6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终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类网络终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能网络终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T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终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配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配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5796000" y="1125360"/>
            <a:ext cx="2676600" cy="5258520"/>
            <a:chOff x="5796000" y="1125360"/>
            <a:chExt cx="2676600" cy="525852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6012000" y="1125360"/>
              <a:ext cx="1143000" cy="9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5940360" y="2349360"/>
              <a:ext cx="144792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3"/>
            <a:stretch/>
          </p:blipFill>
          <p:spPr>
            <a:xfrm>
              <a:off x="6012000" y="3789360"/>
              <a:ext cx="12952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4"/>
            <a:stretch/>
          </p:blipFill>
          <p:spPr>
            <a:xfrm>
              <a:off x="5796000" y="5157720"/>
              <a:ext cx="1447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7381440" y="155736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49880" y="4471920"/>
              <a:ext cx="14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TA128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适配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39280" y="3247920"/>
              <a:ext cx="12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适配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40640" y="598500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数字话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通过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访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上运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呼出到目的地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封装链路层协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其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激活呼叫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Grou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关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IP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11280" y="1844640"/>
            <a:ext cx="8243640" cy="3489480"/>
            <a:chOff x="611280" y="1844640"/>
            <a:chExt cx="8243640" cy="3489480"/>
          </a:xfrm>
        </p:grpSpPr>
        <p:grpSp>
          <p:nvGrpSpPr>
            <p:cNvPr id="921" name=""/>
            <p:cNvGrpSpPr/>
            <p:nvPr/>
          </p:nvGrpSpPr>
          <p:grpSpPr>
            <a:xfrm>
              <a:off x="3708360" y="2924280"/>
              <a:ext cx="2448000" cy="1441080"/>
              <a:chOff x="3708360" y="2924280"/>
              <a:chExt cx="2448000" cy="1441080"/>
            </a:xfrm>
          </p:grpSpPr>
          <p:sp>
            <p:nvSpPr>
              <p:cNvPr id="922" name=""/>
              <p:cNvSpPr/>
              <p:nvPr/>
            </p:nvSpPr>
            <p:spPr>
              <a:xfrm>
                <a:off x="3708360" y="3150360"/>
                <a:ext cx="2448000" cy="121500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8200" y="2924280"/>
                <a:ext cx="1991520" cy="10562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24" name=""/>
            <p:cNvGraphicFramePr/>
            <p:nvPr/>
          </p:nvGraphicFramePr>
          <p:xfrm>
            <a:off x="611280" y="1844640"/>
            <a:ext cx="8243640" cy="348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1280" y="1844640"/>
                      <a:ext cx="8243640" cy="348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参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3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数字入呼叫时需检查的被叫号码或子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D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接口发起连接的呼叫方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接口对呼叫的处理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监控和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当前激活的呼叫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当前的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调试信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拨号上网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097280" y="1628640"/>
            <a:ext cx="7074720" cy="3062520"/>
            <a:chOff x="1097280" y="1628640"/>
            <a:chExt cx="7074720" cy="3062520"/>
          </a:xfrm>
        </p:grpSpPr>
        <p:pic>
          <p:nvPicPr>
            <p:cNvPr id="932" name="" descr=""/>
            <p:cNvPicPr/>
            <p:nvPr/>
          </p:nvPicPr>
          <p:blipFill>
            <a:blip r:embed="rId1"/>
            <a:stretch/>
          </p:blipFill>
          <p:spPr>
            <a:xfrm>
              <a:off x="1281600" y="3585960"/>
              <a:ext cx="809640" cy="70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3" name=""/>
            <p:cNvGrpSpPr/>
            <p:nvPr/>
          </p:nvGrpSpPr>
          <p:grpSpPr>
            <a:xfrm>
              <a:off x="2925360" y="3196080"/>
              <a:ext cx="1905840" cy="1040400"/>
              <a:chOff x="2925360" y="3196080"/>
              <a:chExt cx="1905840" cy="1040400"/>
            </a:xfrm>
          </p:grpSpPr>
          <p:sp>
            <p:nvSpPr>
              <p:cNvPr id="934" name=""/>
              <p:cNvSpPr/>
              <p:nvPr/>
            </p:nvSpPr>
            <p:spPr>
              <a:xfrm>
                <a:off x="2925360" y="3359160"/>
                <a:ext cx="1905840" cy="87732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9720" y="3196080"/>
                <a:ext cx="1550520" cy="7628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36" name=""/>
            <p:cNvGraphicFramePr/>
            <p:nvPr/>
          </p:nvGraphicFramePr>
          <p:xfrm>
            <a:off x="5197320" y="2624400"/>
            <a:ext cx="486720" cy="72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97320" y="2624400"/>
                      <a:ext cx="486720" cy="72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38" name=""/>
            <p:cNvGrpSpPr/>
            <p:nvPr/>
          </p:nvGrpSpPr>
          <p:grpSpPr>
            <a:xfrm>
              <a:off x="7049880" y="1628640"/>
              <a:ext cx="1122120" cy="1175400"/>
              <a:chOff x="7049880" y="1628640"/>
              <a:chExt cx="1122120" cy="1175400"/>
            </a:xfrm>
          </p:grpSpPr>
          <p:pic>
            <p:nvPicPr>
              <p:cNvPr id="9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9880" y="1628640"/>
                <a:ext cx="1122120" cy="11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 txBox="1"/>
              <p:nvPr/>
            </p:nvSpPr>
            <p:spPr>
              <a:xfrm>
                <a:off x="7093080" y="2093760"/>
                <a:ext cx="1035720" cy="374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ffffcc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"/>
                  </a:rPr>
                  <a:t>Internet</a:t>
                </a:r>
                <a:endPara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cxnSp>
          <p:nvCxnSpPr>
            <p:cNvPr id="941" name=""/>
            <p:cNvCxnSpPr>
              <a:stCxn id="932" idx="3"/>
              <a:endCxn id="935" idx="1"/>
            </p:cNvCxnSpPr>
            <p:nvPr/>
          </p:nvCxnSpPr>
          <p:spPr>
            <a:xfrm flipV="1">
              <a:off x="2090880" y="3576960"/>
              <a:ext cx="889560" cy="36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2" name=""/>
            <p:cNvCxnSpPr>
              <a:stCxn id="935" idx="3"/>
            </p:cNvCxnSpPr>
            <p:nvPr/>
          </p:nvCxnSpPr>
          <p:spPr>
            <a:xfrm flipV="1">
              <a:off x="4530600" y="2988360"/>
              <a:ext cx="667080" cy="58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3" name=""/>
            <p:cNvSpPr/>
            <p:nvPr/>
          </p:nvSpPr>
          <p:spPr>
            <a:xfrm rot="15070800">
              <a:off x="6099120" y="1899720"/>
              <a:ext cx="464040" cy="1487880"/>
            </a:xfrm>
            <a:custGeom>
              <a:avLst/>
              <a:gdLst/>
              <a:ahLst/>
              <a:rect l="l" t="t" r="r" b="b"/>
              <a:pathLst>
                <a:path w="404" h="1294">
                  <a:moveTo>
                    <a:pt x="404" y="771"/>
                  </a:moveTo>
                  <a:lnTo>
                    <a:pt x="87" y="0"/>
                  </a:lnTo>
                  <a:lnTo>
                    <a:pt x="224" y="574"/>
                  </a:lnTo>
                  <a:lnTo>
                    <a:pt x="0" y="466"/>
                  </a:lnTo>
                  <a:lnTo>
                    <a:pt x="301" y="1294"/>
                  </a:lnTo>
                  <a:lnTo>
                    <a:pt x="155" y="686"/>
                  </a:lnTo>
                  <a:lnTo>
                    <a:pt x="404" y="771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ecf6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29360" y="3311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97280" y="42922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ut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98680" y="334944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13080" y="27244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3/1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相关名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拨号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轮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77080" y="4365720"/>
          <a:ext cx="19810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4365720"/>
                    <a:ext cx="19810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18960" y="1952280"/>
            <a:ext cx="655308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用途及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951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954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拨号建立连接的过程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250920" y="919080"/>
          <a:ext cx="7634160" cy="59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19080"/>
                    <a:ext cx="763416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3348000" y="3232080"/>
            <a:ext cx="1008000" cy="4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回呼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allback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45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呼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安全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变话费承担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叫识别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呼叫端发起呼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收端接收呼叫，并确定是否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收端回呼发起呼叫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主叫识别回呼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入指定拨号接口的配置模式（系统视图下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typ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mote-numb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匹配的呼入进行回呼或接入（拨号接口视图下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-in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remote-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回呼前的延迟时间（拨号接口视图下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timer  enabl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回呼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置本端为回呼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erver/Cli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callback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{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lient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serv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根据对端的用户名查找匹配的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dialer rout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行回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back-cent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配置根据回呼拨号串进行回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back-cent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-numb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配置了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ialer Callback-center dial-number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需要配置回呼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local-us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callback-numb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telephone-number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系统中的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90520" y="1125360"/>
          <a:ext cx="650880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1125360"/>
                    <a:ext cx="650880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3952800"/>
            <a:ext cx="1008000" cy="41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支持的网络拓朴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340000" y="1484280"/>
            <a:ext cx="871560" cy="588960"/>
            <a:chOff x="2340000" y="1484280"/>
            <a:chExt cx="871560" cy="5889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412360" y="16048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87720" y="4437000"/>
            <a:ext cx="871560" cy="588960"/>
            <a:chOff x="2187720" y="4437000"/>
            <a:chExt cx="871560" cy="58896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2187720" y="443700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260080" y="455760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516720" y="2709720"/>
            <a:ext cx="871560" cy="588960"/>
            <a:chOff x="6516720" y="2709720"/>
            <a:chExt cx="871560" cy="58896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6516720" y="270972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589080" y="283032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71640" y="155592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211640" y="155592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898560" y="386064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4067280" y="386064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4930920" y="2781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4067280" y="450864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898560" y="450864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4067280" y="5229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898560" y="5229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8244000" y="198900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8244000" y="2781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8244000" y="3645000"/>
            <a:ext cx="504720" cy="442800"/>
          </a:xfrm>
          <a:prstGeom prst="rect">
            <a:avLst/>
          </a:prstGeom>
          <a:ln w="0">
            <a:noFill/>
          </a:ln>
        </p:spPr>
      </p:pic>
      <p:cxnSp>
        <p:nvCxnSpPr>
          <p:cNvPr id="251" name=""/>
          <p:cNvCxnSpPr>
            <a:stCxn id="239" idx="3"/>
            <a:endCxn id="231" idx="1"/>
          </p:cNvCxnSpPr>
          <p:nvPr/>
        </p:nvCxnSpPr>
        <p:spPr>
          <a:xfrm>
            <a:off x="1476000" y="1778040"/>
            <a:ext cx="86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31" idx="3"/>
            <a:endCxn id="240" idx="1"/>
          </p:cNvCxnSpPr>
          <p:nvPr/>
        </p:nvCxnSpPr>
        <p:spPr>
          <a:xfrm flipV="1">
            <a:off x="3211560" y="1777680"/>
            <a:ext cx="100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3"/>
            <a:endCxn id="234" idx="1"/>
          </p:cNvCxnSpPr>
          <p:nvPr/>
        </p:nvCxnSpPr>
        <p:spPr>
          <a:xfrm>
            <a:off x="1402920" y="4082760"/>
            <a:ext cx="7851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5" idx="3"/>
            <a:endCxn id="234" idx="1"/>
          </p:cNvCxnSpPr>
          <p:nvPr/>
        </p:nvCxnSpPr>
        <p:spPr>
          <a:xfrm>
            <a:off x="1402920" y="4730760"/>
            <a:ext cx="78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7" idx="3"/>
            <a:endCxn id="234" idx="1"/>
          </p:cNvCxnSpPr>
          <p:nvPr/>
        </p:nvCxnSpPr>
        <p:spPr>
          <a:xfrm flipV="1">
            <a:off x="1402920" y="4731840"/>
            <a:ext cx="785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34" idx="3"/>
            <a:endCxn id="242" idx="1"/>
          </p:cNvCxnSpPr>
          <p:nvPr/>
        </p:nvCxnSpPr>
        <p:spPr>
          <a:xfrm flipV="1">
            <a:off x="3059280" y="4082400"/>
            <a:ext cx="100872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34" idx="3"/>
            <a:endCxn id="244" idx="1"/>
          </p:cNvCxnSpPr>
          <p:nvPr/>
        </p:nvCxnSpPr>
        <p:spPr>
          <a:xfrm flipV="1">
            <a:off x="3059280" y="47304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34" idx="3"/>
            <a:endCxn id="246" idx="1"/>
          </p:cNvCxnSpPr>
          <p:nvPr/>
        </p:nvCxnSpPr>
        <p:spPr>
          <a:xfrm>
            <a:off x="3059280" y="4732200"/>
            <a:ext cx="1008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3" idx="3"/>
            <a:endCxn id="237" idx="1"/>
          </p:cNvCxnSpPr>
          <p:nvPr/>
        </p:nvCxnSpPr>
        <p:spPr>
          <a:xfrm>
            <a:off x="5435280" y="3003120"/>
            <a:ext cx="1081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37" idx="3"/>
            <a:endCxn id="249" idx="1"/>
          </p:cNvCxnSpPr>
          <p:nvPr/>
        </p:nvCxnSpPr>
        <p:spPr>
          <a:xfrm flipV="1">
            <a:off x="7387920" y="3002760"/>
            <a:ext cx="856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37" idx="3"/>
            <a:endCxn id="248" idx="1"/>
          </p:cNvCxnSpPr>
          <p:nvPr/>
        </p:nvCxnSpPr>
        <p:spPr>
          <a:xfrm flipV="1">
            <a:off x="7387920" y="2210760"/>
            <a:ext cx="8564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37" idx="3"/>
            <a:endCxn id="250" idx="1"/>
          </p:cNvCxnSpPr>
          <p:nvPr/>
        </p:nvCxnSpPr>
        <p:spPr>
          <a:xfrm>
            <a:off x="7387920" y="3005280"/>
            <a:ext cx="85644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2433960" y="2255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09880" y="369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到多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90880" y="585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点到多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6804000" y="4869000"/>
            <a:ext cx="2155680" cy="145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125000"/>
            <a:ext cx="7391520" cy="49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层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定数据包触发拨号的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端口的优先级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自动拨号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流量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回呼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的缓冲队列的设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接入请求进行识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空闲链路的时间设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164360" y="4869000"/>
          <a:ext cx="1371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869000"/>
                    <a:ext cx="1371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1219320" cy="949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金融系统中常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作备份线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647640" cy="568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924360" y="2060640"/>
            <a:ext cx="647640" cy="5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8388360" y="5516640"/>
          <a:ext cx="453960" cy="81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8360" y="5516640"/>
                    <a:ext cx="4539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986200" y="1052640"/>
            <a:ext cx="736560" cy="79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890720" y="1052640"/>
            <a:ext cx="736560" cy="79668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14520" y="1994040"/>
            <a:ext cx="428400" cy="642960"/>
            <a:chOff x="614520" y="1994040"/>
            <a:chExt cx="428400" cy="642960"/>
          </a:xfrm>
        </p:grpSpPr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758160" y="1994040"/>
              <a:ext cx="28476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614520" y="2286720"/>
              <a:ext cx="25668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1332000" y="1989000"/>
            <a:ext cx="403200" cy="630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6848640" y="3662280"/>
            <a:ext cx="614160" cy="63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7629480" y="3645000"/>
            <a:ext cx="614520" cy="63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8421840" y="3645000"/>
            <a:ext cx="614160" cy="630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7165800" y="566100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6084720" y="566100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4932360" y="5661000"/>
            <a:ext cx="719280" cy="66996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4932360" y="2687760"/>
            <a:ext cx="1752480" cy="956880"/>
            <a:chOff x="4932360" y="2687760"/>
            <a:chExt cx="1752480" cy="956880"/>
          </a:xfrm>
        </p:grpSpPr>
        <p:sp>
          <p:nvSpPr>
            <p:cNvPr id="290" name=""/>
            <p:cNvSpPr/>
            <p:nvPr/>
          </p:nvSpPr>
          <p:spPr>
            <a:xfrm>
              <a:off x="4932360" y="2837880"/>
              <a:ext cx="175248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7"/>
            <a:stretch/>
          </p:blipFill>
          <p:spPr>
            <a:xfrm>
              <a:off x="4982400" y="2687760"/>
              <a:ext cx="1425600" cy="70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92" name=""/>
          <p:cNvCxnSpPr>
            <a:stCxn id="280" idx="3"/>
            <a:endCxn id="282" idx="1"/>
          </p:cNvCxnSpPr>
          <p:nvPr/>
        </p:nvCxnSpPr>
        <p:spPr>
          <a:xfrm>
            <a:off x="1042560" y="2297160"/>
            <a:ext cx="289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2" idx="3"/>
            <a:endCxn id="273" idx="1"/>
          </p:cNvCxnSpPr>
          <p:nvPr/>
        </p:nvCxnSpPr>
        <p:spPr>
          <a:xfrm>
            <a:off x="1734840" y="2305080"/>
            <a:ext cx="46116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73" idx="3"/>
            <a:endCxn id="274" idx="1"/>
          </p:cNvCxnSpPr>
          <p:nvPr/>
        </p:nvCxnSpPr>
        <p:spPr>
          <a:xfrm>
            <a:off x="2842920" y="234432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stCxn id="277" idx="2"/>
          </p:cNvCxnSpPr>
          <p:nvPr/>
        </p:nvCxnSpPr>
        <p:spPr>
          <a:xfrm flipH="1">
            <a:off x="3347640" y="1848960"/>
            <a:ext cx="72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278" idx="3"/>
            <a:endCxn id="277" idx="1"/>
          </p:cNvCxnSpPr>
          <p:nvPr/>
        </p:nvCxnSpPr>
        <p:spPr>
          <a:xfrm>
            <a:off x="2626920" y="14504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73" idx="2"/>
            <a:endCxn id="298" idx="1"/>
          </p:cNvCxnSpPr>
          <p:nvPr/>
        </p:nvCxnSpPr>
        <p:spPr>
          <a:xfrm>
            <a:off x="2518920" y="2628720"/>
            <a:ext cx="3709080" cy="224532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99" name=""/>
          <p:cNvCxnSpPr>
            <a:stCxn id="274" idx="3"/>
            <a:endCxn id="291" idx="0"/>
          </p:cNvCxnSpPr>
          <p:nvPr/>
        </p:nvCxnSpPr>
        <p:spPr>
          <a:xfrm>
            <a:off x="4572000" y="2344320"/>
            <a:ext cx="1124640" cy="343800"/>
          </a:xfrm>
          <a:prstGeom prst="curved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6084720" y="3284640"/>
            <a:ext cx="540000" cy="1452600"/>
          </a:xfrm>
          <a:custGeom>
            <a:avLst/>
            <a:gdLst/>
            <a:ahLst/>
            <a:rect l="l" t="t" r="r" b="b"/>
            <a:pathLst>
              <a:path w="431" h="869">
                <a:moveTo>
                  <a:pt x="0" y="0"/>
                </a:moveTo>
                <a:cubicBezTo>
                  <a:pt x="102" y="48"/>
                  <a:pt x="204" y="97"/>
                  <a:pt x="272" y="226"/>
                </a:cubicBezTo>
                <a:cubicBezTo>
                  <a:pt x="340" y="355"/>
                  <a:pt x="385" y="673"/>
                  <a:pt x="408" y="771"/>
                </a:cubicBezTo>
                <a:cubicBezTo>
                  <a:pt x="431" y="869"/>
                  <a:pt x="419" y="842"/>
                  <a:pt x="408" y="8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8" idx="3"/>
          </p:cNvCxnSpPr>
          <p:nvPr/>
        </p:nvCxnSpPr>
        <p:spPr>
          <a:xfrm flipV="1">
            <a:off x="6875280" y="4868280"/>
            <a:ext cx="187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5" idx="2"/>
          </p:cNvCxnSpPr>
          <p:nvPr/>
        </p:nvCxnSpPr>
        <p:spPr>
          <a:xfrm>
            <a:off x="8729280" y="4275000"/>
            <a:ext cx="19800" cy="59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4" idx="2"/>
          </p:cNvCxnSpPr>
          <p:nvPr/>
        </p:nvCxnSpPr>
        <p:spPr>
          <a:xfrm>
            <a:off x="7937280" y="4275000"/>
            <a:ext cx="19800" cy="59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83" idx="2"/>
          </p:cNvCxnSpPr>
          <p:nvPr/>
        </p:nvCxnSpPr>
        <p:spPr>
          <a:xfrm>
            <a:off x="7156440" y="4292280"/>
            <a:ext cx="86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8" idx="2"/>
            <a:endCxn id="288" idx="0"/>
          </p:cNvCxnSpPr>
          <p:nvPr/>
        </p:nvCxnSpPr>
        <p:spPr>
          <a:xfrm flipH="1">
            <a:off x="5292000" y="5157720"/>
            <a:ext cx="1259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8" idx="2"/>
            <a:endCxn id="287" idx="0"/>
          </p:cNvCxnSpPr>
          <p:nvPr/>
        </p:nvCxnSpPr>
        <p:spPr>
          <a:xfrm flipH="1">
            <a:off x="6444720" y="5157720"/>
            <a:ext cx="107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8" idx="2"/>
            <a:endCxn id="286" idx="0"/>
          </p:cNvCxnSpPr>
          <p:nvPr/>
        </p:nvCxnSpPr>
        <p:spPr>
          <a:xfrm>
            <a:off x="6551280" y="5157720"/>
            <a:ext cx="9752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8" idx="2"/>
          </p:cNvCxnSpPr>
          <p:nvPr/>
        </p:nvCxnSpPr>
        <p:spPr>
          <a:xfrm>
            <a:off x="6551280" y="5157360"/>
            <a:ext cx="20646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708360" y="26370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2708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720" y="47973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42920" y="3789360"/>
            <a:ext cx="1508040" cy="401760"/>
          </a:xfr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主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8"/>
          <a:stretch/>
        </p:blipFill>
        <p:spPr>
          <a:xfrm>
            <a:off x="6227640" y="4589640"/>
            <a:ext cx="648000" cy="5680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55640" y="4970520"/>
            <a:ext cx="2227320" cy="474480"/>
          </a:xfr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银行骨干网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32720" y="1801800"/>
            <a:ext cx="2160360" cy="403200"/>
          </a:xfr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CC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备份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84480" y="118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业务前置机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63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M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27960" y="629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营业终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4160" y="501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812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市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73880" y="3146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某营业网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06160" y="2801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/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0" r="57908" b="0"/>
          <a:stretch/>
        </p:blipFill>
        <p:spPr>
          <a:xfrm>
            <a:off x="2268360" y="1125360"/>
            <a:ext cx="1006560" cy="194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232000" cy="1866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POS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终端利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CC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远程接入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84360" y="1413000"/>
            <a:ext cx="1600200" cy="574200"/>
            <a:chOff x="684360" y="1413000"/>
            <a:chExt cx="1600200" cy="574200"/>
          </a:xfrm>
        </p:grpSpPr>
        <p:sp>
          <p:nvSpPr>
            <p:cNvPr id="327" name=""/>
            <p:cNvSpPr/>
            <p:nvPr/>
          </p:nvSpPr>
          <p:spPr>
            <a:xfrm>
              <a:off x="684360" y="159696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0240" y="185724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092600" y="172008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422720" y="171468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053360" y="1535760"/>
              <a:ext cx="212760" cy="275760"/>
              <a:chOff x="1053360" y="1535760"/>
              <a:chExt cx="212760" cy="2757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1053360" y="1704240"/>
                <a:ext cx="212760" cy="107280"/>
                <a:chOff x="1053360" y="1704240"/>
                <a:chExt cx="212760" cy="1072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053360" y="17089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053360" y="17042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53360" y="1673640"/>
                <a:ext cx="212760" cy="107280"/>
                <a:chOff x="1053360" y="1673640"/>
                <a:chExt cx="212760" cy="1072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053360" y="1678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53360" y="1673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053360" y="1643400"/>
                <a:ext cx="212760" cy="107280"/>
                <a:chOff x="1053360" y="1643400"/>
                <a:chExt cx="212760" cy="107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053360" y="164808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053360" y="164340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053360" y="1609920"/>
                <a:ext cx="212760" cy="107280"/>
                <a:chOff x="1053360" y="1609920"/>
                <a:chExt cx="212760" cy="1072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053360" y="16146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053360" y="16099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053360" y="1576440"/>
                <a:ext cx="212760" cy="107280"/>
                <a:chOff x="1053360" y="1576440"/>
                <a:chExt cx="212760" cy="1072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053360" y="15811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053360" y="15764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053360" y="1535760"/>
                <a:ext cx="212760" cy="107280"/>
                <a:chOff x="1053360" y="1535760"/>
                <a:chExt cx="212760" cy="1072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053360" y="15404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053360" y="15357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1607400" y="1413000"/>
              <a:ext cx="492840" cy="514080"/>
              <a:chOff x="1607400" y="1413000"/>
              <a:chExt cx="492840" cy="514080"/>
            </a:xfrm>
          </p:grpSpPr>
          <p:pic>
            <p:nvPicPr>
              <p:cNvPr id="3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72640" y="141300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7400" y="164700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"/>
            <p:cNvGrpSpPr/>
            <p:nvPr/>
          </p:nvGrpSpPr>
          <p:grpSpPr>
            <a:xfrm>
              <a:off x="1358640" y="1535760"/>
              <a:ext cx="225360" cy="256680"/>
              <a:chOff x="1358640" y="1535760"/>
              <a:chExt cx="225360" cy="25668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358640" y="1667520"/>
                <a:ext cx="225360" cy="124920"/>
                <a:chOff x="1358640" y="1667520"/>
                <a:chExt cx="225360" cy="124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358640" y="16794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358640" y="16675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358640" y="1641240"/>
                <a:ext cx="225360" cy="124920"/>
                <a:chOff x="1358640" y="1641240"/>
                <a:chExt cx="225360" cy="124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358640" y="1653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358640" y="1641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358640" y="1614600"/>
                <a:ext cx="225360" cy="124920"/>
                <a:chOff x="1358640" y="1614600"/>
                <a:chExt cx="225360" cy="124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358640" y="162648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358640" y="161460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358640" y="1588320"/>
                <a:ext cx="225360" cy="124920"/>
                <a:chOff x="1358640" y="1588320"/>
                <a:chExt cx="225360" cy="124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358640" y="1600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358640" y="1588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358640" y="1562040"/>
                <a:ext cx="225360" cy="124920"/>
                <a:chOff x="1358640" y="1562040"/>
                <a:chExt cx="225360" cy="12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358640" y="1573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8640" y="1562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358640" y="1535760"/>
                <a:ext cx="225360" cy="124920"/>
                <a:chOff x="1358640" y="1535760"/>
                <a:chExt cx="225360" cy="124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358640" y="1547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358640" y="1535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5869080" y="3933720"/>
            <a:ext cx="744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2844720" y="3284640"/>
            <a:ext cx="2232000" cy="1101240"/>
            <a:chOff x="2844720" y="3284640"/>
            <a:chExt cx="2232000" cy="1101240"/>
          </a:xfrm>
        </p:grpSpPr>
        <p:grpSp>
          <p:nvGrpSpPr>
            <p:cNvPr id="375" name=""/>
            <p:cNvGrpSpPr/>
            <p:nvPr/>
          </p:nvGrpSpPr>
          <p:grpSpPr>
            <a:xfrm>
              <a:off x="2844720" y="3284640"/>
              <a:ext cx="2232000" cy="1101240"/>
              <a:chOff x="2844720" y="3284640"/>
              <a:chExt cx="2232000" cy="1101240"/>
            </a:xfrm>
          </p:grpSpPr>
          <p:sp>
            <p:nvSpPr>
              <p:cNvPr id="376" name=""/>
              <p:cNvSpPr/>
              <p:nvPr/>
            </p:nvSpPr>
            <p:spPr>
              <a:xfrm>
                <a:off x="2844720" y="3457440"/>
                <a:ext cx="2232000" cy="92844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8440" y="3284640"/>
                <a:ext cx="1815840" cy="80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8" name=""/>
            <p:cNvSpPr/>
            <p:nvPr/>
          </p:nvSpPr>
          <p:spPr>
            <a:xfrm>
              <a:off x="3134520" y="342900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TN/IS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971640" y="299736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343548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2" idx="2"/>
            <a:endCxn id="377" idx="1"/>
          </p:cNvCxnSpPr>
          <p:nvPr/>
        </p:nvCxnSpPr>
        <p:spPr>
          <a:xfrm>
            <a:off x="1560600" y="3001680"/>
            <a:ext cx="134856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7" idx="3"/>
            <a:endCxn id="373" idx="1"/>
          </p:cNvCxnSpPr>
          <p:nvPr/>
        </p:nvCxnSpPr>
        <p:spPr>
          <a:xfrm>
            <a:off x="4724280" y="3689280"/>
            <a:ext cx="114552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0"/>
          </p:cNvCxnSpPr>
          <p:nvPr/>
        </p:nvCxnSpPr>
        <p:spPr>
          <a:xfrm flipH="1" flipV="1">
            <a:off x="1331280" y="1988280"/>
            <a:ext cx="2293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5076720" y="5157720"/>
            <a:ext cx="657360" cy="711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6084720" y="5157720"/>
            <a:ext cx="657360" cy="711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7020000" y="5157720"/>
            <a:ext cx="657000" cy="711360"/>
          </a:xfrm>
          <a:prstGeom prst="rect">
            <a:avLst/>
          </a:prstGeom>
          <a:ln w="0">
            <a:noFill/>
          </a:ln>
        </p:spPr>
      </p:pic>
      <p:cxnSp>
        <p:nvCxnSpPr>
          <p:cNvPr id="387" name=""/>
          <p:cNvCxnSpPr>
            <a:stCxn id="384" idx="0"/>
            <a:endCxn id="373" idx="2"/>
          </p:cNvCxnSpPr>
          <p:nvPr/>
        </p:nvCxnSpPr>
        <p:spPr>
          <a:xfrm flipV="1">
            <a:off x="5405400" y="4585680"/>
            <a:ext cx="8373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73" idx="2"/>
            <a:endCxn id="385" idx="0"/>
          </p:cNvCxnSpPr>
          <p:nvPr/>
        </p:nvCxnSpPr>
        <p:spPr>
          <a:xfrm>
            <a:off x="6242040" y="4586040"/>
            <a:ext cx="172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3" idx="2"/>
            <a:endCxn id="386" idx="0"/>
          </p:cNvCxnSpPr>
          <p:nvPr/>
        </p:nvCxnSpPr>
        <p:spPr>
          <a:xfrm>
            <a:off x="6242040" y="4586040"/>
            <a:ext cx="11073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867600" y="105264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IX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69880" y="60213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终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59440" y="4502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同异步串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09480" y="132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银行主机侧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53920" y="35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商场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516720" y="1341360"/>
            <a:ext cx="1752480" cy="134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1042920" y="5300640"/>
          <a:ext cx="1447920" cy="668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300640"/>
                    <a:ext cx="1447920" cy="668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02:05:42Z</dcterms:created>
  <dc:creator>xw</dc:creator>
  <dc:description/>
  <dc:language>en-US</dc:language>
  <cp:lastModifiedBy>123</cp:lastModifiedBy>
  <cp:lastPrinted>2002-07-08T02:44:19Z</cp:lastPrinted>
  <dcterms:modified xsi:type="dcterms:W3CDTF">2004-01-04T09:59:36Z</dcterms:modified>
  <cp:revision>3</cp:revision>
  <dc:subject/>
  <dc:title>D009 DCC、ISDN原理及配置</dc:title>
</cp:coreProperties>
</file>